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35A-8A9C-43C0-B875-AD90F798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C59-B8F4-493A-8F6A-040C166B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92B-A3F5-4C2A-B470-D5885493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DC24-6308-4A64-ADE4-41F389C9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661-42CE-4DBE-8C42-39AB862F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C199-E1ED-4F3E-A5A6-B11B77D6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E45-B479-467A-83A8-20A09439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70F-E971-4E10-BD91-BA616C86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700B-4454-40AD-9136-8750E3D3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D67B-2CB0-4285-8140-7156144C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B417-0CDE-49DF-B276-F017ADB1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91B-F7BD-41AF-AD2F-2A345B23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F450-954C-4823-908A-B93CA0156C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ednesday, November 12th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1752120"/>
            <a:ext cx="78483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ilot in an airplane of altitude 12km sees two towers directly in front of the plane.  The angles of depression to the towers are 25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6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How far apart are the two tow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onfunction Identiti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os 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sin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ot (x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tan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sc (x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sec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fc08d"/>
                </a:solidFill>
                <a:latin typeface="Arial"/>
              </a:rPr>
              <a:t>Using given values to find remaining trig functions</a:t>
            </a:r>
            <a:endParaRPr b="0" lang="en-US" sz="5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1.  Tan </a:t>
            </a:r>
            <a:r>
              <a:rPr b="0" lang="el-GR" sz="44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 = ¾ and Csc </a:t>
            </a:r>
            <a:r>
              <a:rPr b="0" lang="el-GR" sz="44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 = </a:t>
            </a:r>
            <a:r>
              <a:rPr b="0" lang="en-US" sz="4400" spc="-1" strike="noStrike" baseline="30000">
                <a:solidFill>
                  <a:srgbClr val="dfc08d"/>
                </a:solidFill>
                <a:latin typeface="Arial"/>
                <a:ea typeface="Arial"/>
              </a:rPr>
              <a:t>5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/</a:t>
            </a:r>
            <a:r>
              <a:rPr b="0" lang="en-US" sz="4400" spc="-1" strike="noStrike" baseline="-25000">
                <a:solidFill>
                  <a:srgbClr val="dfc08d"/>
                </a:solidFill>
                <a:latin typeface="Arial"/>
                <a:ea typeface="Arial"/>
              </a:rPr>
              <a:t>3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2.  Cot </a:t>
            </a:r>
            <a:r>
              <a:rPr b="0" lang="el-GR" sz="44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 = -5 and sin </a:t>
            </a:r>
            <a:r>
              <a:rPr b="0" lang="el-GR" sz="44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 = </a:t>
            </a:r>
            <a:r>
              <a:rPr b="0" lang="en-US" sz="4400" spc="-1" strike="noStrike" baseline="30000">
                <a:solidFill>
                  <a:srgbClr val="dfc08d"/>
                </a:solidFill>
                <a:latin typeface="Symbol"/>
                <a:ea typeface="Symbol"/>
              </a:rPr>
              <a:t></a:t>
            </a:r>
            <a:r>
              <a:rPr b="0" lang="en-US" sz="4400" spc="-1" strike="noStrike" baseline="30000">
                <a:solidFill>
                  <a:srgbClr val="dfc08d"/>
                </a:solidFill>
                <a:latin typeface="Arial"/>
                <a:ea typeface="Arial"/>
              </a:rPr>
              <a:t>26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/</a:t>
            </a:r>
            <a:r>
              <a:rPr b="0" lang="en-US" sz="4400" spc="-1" strike="noStrike" baseline="-25000">
                <a:solidFill>
                  <a:srgbClr val="dfc08d"/>
                </a:solidFill>
                <a:latin typeface="Arial"/>
                <a:ea typeface="Arial"/>
              </a:rPr>
              <a:t>26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3.  Tan </a:t>
            </a:r>
            <a:r>
              <a:rPr b="0" lang="el-GR" sz="40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c08d"/>
                </a:solidFill>
                <a:latin typeface="Arial"/>
                <a:ea typeface="Arial"/>
              </a:rPr>
              <a:t> is undefined and          sin </a:t>
            </a:r>
            <a:r>
              <a:rPr b="0" lang="el-GR" sz="40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c08d"/>
                </a:solidFill>
                <a:latin typeface="Arial"/>
                <a:ea typeface="Arial"/>
              </a:rPr>
              <a:t> &gt; 0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Page 381</a:t>
            </a:r>
            <a:br>
              <a:rPr sz="8500"/>
            </a:b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#1-13</a:t>
            </a:r>
            <a:endParaRPr b="0" lang="en-US" sz="8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Looking ahead…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5.1 on Wednesday, Thursday, Fri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on Lesson 5.1 next Tu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of Quarter 1 grades are due by 9 AM Friday morning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fc08d"/>
                </a:solidFill>
                <a:latin typeface="Arial"/>
              </a:rPr>
              <a:t>Chapter Five</a:t>
            </a:r>
            <a:br>
              <a:rPr sz="4000"/>
            </a:br>
            <a:r>
              <a:rPr b="0" i="1" lang="en-US" sz="4000" spc="-1" strike="noStrike">
                <a:solidFill>
                  <a:srgbClr val="dfc08d"/>
                </a:solidFill>
                <a:latin typeface="Arial"/>
              </a:rPr>
              <a:t>Analytic Trigonometry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Lesson 5.1</a:t>
            </a:r>
            <a:br>
              <a:rPr sz="8500"/>
            </a:b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8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Reciprocal Identiti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1752480"/>
          <a:ext cx="294624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2946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876920" y="1752480"/>
          <a:ext cx="3016080" cy="452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752480"/>
                    <a:ext cx="301608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Quotient Identiti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40160" y="1830240"/>
          <a:ext cx="40636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0160" y="1830240"/>
                    <a:ext cx="40636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Pythagorean Identiti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1913040"/>
          <a:ext cx="6096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13040"/>
                    <a:ext cx="6096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Odd trigonometric functions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f(-x)=-f(x)  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NOT symmetric about y axis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(-x)= -sin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(-x)= -tan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(-x)= -csc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(-x)= -cot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Even trigonometric functions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f(-x)=f(x)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SYMMETRIC about y axis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(-x) = cos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(-x) = sec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4:35:09Z</dcterms:created>
  <dc:creator>jnewman</dc:creator>
  <dc:description/>
  <dc:language>en-US</dc:language>
  <cp:lastModifiedBy>abeason</cp:lastModifiedBy>
  <dcterms:modified xsi:type="dcterms:W3CDTF">2008-11-12T15:48:07Z</dcterms:modified>
  <cp:revision>11</cp:revision>
  <dc:subject/>
  <dc:title>Lesson 5.1 part one</dc:title>
</cp:coreProperties>
</file>